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C84-9452-465B-9BEB-BB9A2AFD9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– это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ей-заповедник "Овстуг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1E2-FC53-4E3B-9761-709E81F67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641-36B4-4408-A6BC-2C89BBD2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15A-5368-4057-BA1C-536D55E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92F-8F18-4451-AA70-EB77E7D9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193-9712-438A-BE7E-8945CA5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B3A-B572-4C3C-853C-9197E05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C31-A1A9-4F2B-9797-8FC7B7A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C72-17DA-419B-A865-A594A89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460-2E6C-4372-84B2-3FD27E0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576-5771-4E6F-A219-E054B91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566-3F27-462A-8AFF-38AFDC0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C50-600F-408D-82A1-39AE618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D35-B0ED-4E95-AA2E-0F837029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5E3-CBA9-4BE0-A2A5-4C16C038C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nnel.ru/?l=gzl&amp;uid=147" TargetMode="External"/><Relationship Id="rId2" Type="http://schemas.openxmlformats.org/officeDocument/2006/relationships/hyperlink" Target="http://upload.wikimedia.org/wikipedia/commons/2/29/Tyutchev_memorial_Bryansk.jpg" TargetMode="External"/><Relationship Id="rId3" Type="http://schemas.openxmlformats.org/officeDocument/2006/relationships/hyperlink" Target="http://upload.wikimedia.org/wikipedia/commons/1/18/MonumentTutchev.JPG" TargetMode="External"/><Relationship Id="rId4" Type="http://schemas.openxmlformats.org/officeDocument/2006/relationships/hyperlink" Target="http://upload.wikimedia.org/wikipedia/commons/1/18/MonumentTutchev.JPG" TargetMode="External"/><Relationship Id="rId5" Type="http://schemas.openxmlformats.org/officeDocument/2006/relationships/hyperlink" Target="http://upload.wikimedia.org/wikipedia/commons/d/d9/Owstug.JPG" TargetMode="External"/><Relationship Id="rId6" Type="http://schemas.openxmlformats.org/officeDocument/2006/relationships/hyperlink" Target="http://www.hrono.ru/biograf/bio_t/tjutchev_fi.php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а Ивановича Тютчева</a:t>
            </a:r>
            <a:br>
              <a:rPr sz="44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-4 классы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 Федор Иванович в Царском Сел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15 июня 1873 года,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 похоронен на Новодевичьем кладбищ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Петербурге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поэту в Овсту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3429000" cy="52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Бря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tonnel.ru/?l=gzl&amp;uid=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Тютчеву Ф.И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2/29/Tyutchev_memorial_Bryans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upload.wikimedia.org/wikipedia/commons/1/18/MonumentTutch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Овстуг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d/d9/Owstu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hrono.ru/biograf/bio_t/tjutchev_f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у до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3-07.photosight.ru/22/25725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4format.ru/photo.open.php?file=448dbe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ar.ru/books/p8027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books.ru/img_cat/508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zon.ru/multimedia/books_covers/100024615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ое Се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2.nnm.ru/5/5/e/f/d/776f795c0ea50fdd041a526f1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юнх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ia-pr.de/rusindex/o_nas/tutche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741480" cy="4573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>
            <a:hlinkClick r:id="rId2" action="ppaction://hlinksldjump"/>
          </p:cNvPr>
          <p:cNvSpPr/>
          <p:nvPr/>
        </p:nvSpPr>
        <p:spPr>
          <a:xfrm>
            <a:off x="4357800" y="171468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3 г. – 18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-корреспондент Петербургской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285840" y="500040"/>
            <a:ext cx="557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одился 23 ноября (1803 г.) в усадьбе Овстуг Орловской губернии в стародворянской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аннее детство Тютчева протекало в Овстуге. Мальчик жил в мире фантазии. Для него словно не существовало грани между мечтой и реальной действи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32068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встуг — родовое имение Тютчевых, где 23 ноября 1803 года родился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0" b="4255"/>
          <a:stretch/>
        </p:blipFill>
        <p:spPr>
          <a:xfrm>
            <a:off x="714240" y="1428840"/>
            <a:ext cx="77155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521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ервоначальное образование Феденька Тютчев получил дома. Он обучался истории, географии, арифметике, русскому и иностранным языкам — французскому, немецкому и латинск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857920" y="3357720"/>
            <a:ext cx="2541600" cy="30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357960" y="571680"/>
            <a:ext cx="1905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возрасте 16 лет поступил  в Московский универси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том же году (1819) опубликовано его перв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403800" cy="41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643040" y="4714920"/>
            <a:ext cx="300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28584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сенью 1821 года Тютчев заканчивает университет со степенью кандидата словесных наук. Он получает место сверхштатного чиновника (дипломата) русской миссии в Баварии. В июле 1822 года он отправляется в Мюнхен и проводит там 22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43000" y="48578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выдающийся российский поэт и дипломат  Федор Иванович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1424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оэзия Тютчева насчитывает немногим более 400 стихотворений. Одной из самых распространенных тематик  в творчестве поэта – при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59054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573960" y="50720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а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я Фёдора 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40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79720" cy="390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143160" y="1357200"/>
            <a:ext cx="24289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0-08-18T17:24:34Z</dcterms:modified>
  <cp:revision>46</cp:revision>
  <dc:subject/>
  <dc:title>Биография и творчество  Фёдора Ивановича Тютчева  3 класс 1 полугодие УМК «Школа России» </dc:title>
</cp:coreProperties>
</file>